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0B22B-937F-4837-B6B8-11F1B6321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0BBB3-A4CC-4B93-ABB9-646215D31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E32E-0DD6-4AD9-AFF7-FBCF5B568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3A371-27CC-4885-804A-BA1470570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EAF5F-31D0-4769-BD57-4FD2761C5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E0B97-9299-4EA1-B797-BEDCF4FD1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B9565-550A-4C95-B3FE-0F4D63358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FE281-0535-42FB-A8AA-1DA9EE367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36640-5197-4A43-8F08-4E1504F45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EEA41-BDF7-4435-89C5-ACD62A20D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D21DF-46C1-47D2-9DFD-227862181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0D3F-FDB8-44E4-8974-72EAFDB2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AD103-1355-4A6F-AD60-CD0787DF2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826A7-4F5E-44FD-A242-AEE9FACA6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9F225-7FA6-4EE8-AA0B-81F3C8683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87F6F-004F-4A43-949A-C40C30A82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4CB616-3308-4115-8DD2-D25042BAF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99620-7E8E-4816-90D9-929609B68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50A20-CDAA-4964-9571-2F9484C10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C4DF-EFEC-44A3-84BE-1F8528796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C9604-F326-4744-8ADE-E1762AEF3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134DB-7F73-4B3A-A5FD-D4F401F11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697BB-C19E-4AD8-B180-DEC7B2FE3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49C88-16CF-4F38-A90B-E31210A789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B6032-D64E-41BC-933D-6FFE73B2429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A359-5E69-4AAB-9A81-EF8AC52F363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ILLEGAL DUMPING</a:t>
            </a:r>
            <a:br>
              <a:rPr sz="4000"/>
            </a:br>
            <a:r>
              <a:rPr b="0" lang="en-US" sz="3200" spc="-1" strike="noStrike">
                <a:solidFill>
                  <a:srgbClr val="333399"/>
                </a:solidFill>
                <a:latin typeface="Tahoma"/>
              </a:rPr>
              <a:t>(Theft of Service)</a:t>
            </a:r>
            <a:endParaRPr b="0" lang="en-US" sz="32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rio-US Lock</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vember 15, 2006</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ay Leshefsky National Sales Manager</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 Johnson Government Account Specialist</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1696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 is difficult to profile a typical illegal dumper, however offenders can include:</a:t>
            </a:r>
            <a:endParaRPr b="0" lang="en-US" sz="4000" spc="-1" strike="noStrike">
              <a:solidFill>
                <a:srgbClr val="333399"/>
              </a:solidFill>
              <a:latin typeface="Tahoma"/>
            </a:endParaRPr>
          </a:p>
        </p:txBody>
      </p:sp>
      <p:sp>
        <p:nvSpPr>
          <p:cNvPr id="118" name="PlaceHolder 2"/>
          <p:cNvSpPr>
            <a:spLocks noGrp="1"/>
          </p:cNvSpPr>
          <p:nvPr>
            <p:ph/>
          </p:nvPr>
        </p:nvSpPr>
        <p:spPr>
          <a:xfrm>
            <a:off x="1143000" y="3123720"/>
            <a:ext cx="7812000" cy="3008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struction Compan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ndscap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meown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rap collecto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cal resid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y Do Individuals Dump Illegally?</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o Individuals Dump Illegally?</a:t>
            </a:r>
            <a:endParaRPr b="0" lang="en-US" sz="4400" spc="-1" strike="noStrike">
              <a:solidFill>
                <a:srgbClr val="333399"/>
              </a:solidFill>
              <a:latin typeface="Tahoma"/>
            </a:endParaRPr>
          </a:p>
        </p:txBody>
      </p:sp>
      <p:sp>
        <p:nvSpPr>
          <p:cNvPr id="12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norance of the law</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want to pay landfill f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respect for another’s property and the environm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zin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rid of hazardous was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want to pay disposal f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 “ pay as you throw “ program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Do Individuals Dump Illegally?</a:t>
            </a:r>
            <a:endParaRPr b="0" lang="en-US" sz="4400" spc="-1" strike="noStrike">
              <a:solidFill>
                <a:srgbClr val="333399"/>
              </a:solidFill>
              <a:latin typeface="Tahoma"/>
            </a:endParaRPr>
          </a:p>
        </p:txBody>
      </p:sp>
      <p:sp>
        <p:nvSpPr>
          <p:cNvPr id="123"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y as you throw Programs (blue bag programs) Residents avoid extra charges for exceeding their bag limits by illegal dump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3">
                                            <p:txEl>
                                              <p:pRg st="0" end="0"/>
                                            </p:txEl>
                                          </p:spTgt>
                                        </p:tgtEl>
                                        <p:attrNameLst>
                                          <p:attrName>style.visibility</p:attrName>
                                        </p:attrNameLst>
                                      </p:cBhvr>
                                      <p:to>
                                        <p:strVal val="visible"/>
                                      </p:to>
                                    </p:set>
                                    <p:anim calcmode="lin" valueType="num">
                                      <p:cBhvr additive="base">
                                        <p:cTn id="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y is Illegal Dumping a Problem?</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ivia Question #3</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as the name of the boat that began to get Mainstream USA thinking about recycling?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andfill cost for haulers &amp; Municipal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gative impact on recycling program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ironmental issu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issu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per disposal of hazardous waste or medical wast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es from flammable material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perty values decreas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impact on recycling programs through the</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amination of recyclables</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tober 2006- Personally met with 13 municipalities in the State of Indiana,  where illegal dumping is a major challenge if not the number one problem to their recycling program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unicipalities from the AISWMD that I met with insisted that a strategy to prevent illegal dumping was essential for them to have a successful recycling program.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creased landfill costs for the hauler &amp; Municipalities</a:t>
            </a:r>
            <a:endParaRPr b="0" lang="en-US" sz="4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formation below is per 1000 cans and was obtained by surveying haulers nationwide</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nual Landfill cost -  $2,000,000 </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non customer generated trash - $100,000 annual extra cost</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xtra cost per container - $100 </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io-us Lock conducted an informal survey of its customers and found that customers reported between 10% and 50%  of the trash in their dumpsters was the result of illegal dumping with the average being 22%.</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above example, the extra cost would be $440,000</a:t>
            </a:r>
            <a:endParaRPr b="0" lang="en-US" sz="2000" spc="-1" strike="noStrike">
              <a:solidFill>
                <a:srgbClr val="000000"/>
              </a:solidFill>
              <a:latin typeface="Tahoma"/>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vironmental Issues-In rural areas open burning at dumpsites can cause forest fires and severe erosion as fire burns away trees and undergrowth. Dumping in these areas also has a negative impact on plants and wildlif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ditionally, runoff from dumpsites containing chemicals may contaminate wells and surface water used as a source of drinking wat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rio-US Lock</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been in business for over 15 yea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done extensive research to determine the costs of dumping to the waste industry, particularly to haulers and the Municipalities. We have prepared statistics to document our findings. (Our lock savings analysi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research includes all types of our customers from the largest hauling companies to smaller private haulers and cities throughout the country.  </a:t>
            </a:r>
            <a:endParaRPr b="0" lang="en-US" sz="2400" spc="-1" strike="noStrike">
              <a:solidFill>
                <a:srgbClr val="000000"/>
              </a:solidFill>
              <a:latin typeface="Tahoma"/>
            </a:endParaRPr>
          </a:p>
        </p:txBody>
      </p:sp>
      <p:sp>
        <p:nvSpPr>
          <p:cNvPr id="103" name=""/>
          <p:cNvSpPr/>
          <p:nvPr/>
        </p:nvSpPr>
        <p:spPr>
          <a:xfrm>
            <a:off x="3657600" y="3886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Is Illegal Dumping A Problem?</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Risk-Easily accessible to people, especially children, who are vulnerable to injuries (protruding nails &amp; sharp edg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eding ground for mosquitoes, which can multiply 100 times faster than normal in the warm, stagnant water standing in scrap tire casings. Encephalitis and Dengue fever have been attributed to disease carrying mosquito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Improper Disposal  of Hazadarouz Waste</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woods- Two boys playing in dumpster were killed by toxic fumes of illegally dumped paints and chemical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ltimately the hauler was held responsible. Attwoods was sued and went out of busines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n Be Done To Eliminate Illegal Dump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one to eliminate illegal dumping?</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mote public awarene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ss laws to penalize behavi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 progra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ustry funded effor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trol the waste stream (lock the contain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ducation &amp; Public Awarenes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ke County Indiana – Lake County received grant money thru the EPA and IDEM (Indiana Department of Environmental Managemen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or hanger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onal newsletter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residents get welcome information packages</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ublic notice ads in newspap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ss Laws To Penalize Behavior</a:t>
            </a:r>
            <a:endParaRPr b="0" lang="en-US" sz="4400" spc="-1" strike="noStrike">
              <a:solidFill>
                <a:srgbClr val="333399"/>
              </a:solidFill>
              <a:latin typeface="Tahoma"/>
            </a:endParaRPr>
          </a:p>
        </p:txBody>
      </p:sp>
      <p:sp>
        <p:nvSpPr>
          <p:cNvPr id="145" name="PlaceHolder 2"/>
          <p:cNvSpPr>
            <a:spLocks noGrp="1"/>
          </p:cNvSpPr>
          <p:nvPr>
            <p:ph/>
          </p:nvPr>
        </p:nvSpPr>
        <p:spPr>
          <a:xfrm>
            <a:off x="380880" y="22096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sh cop Program -The Central Oklahoma program, which consist of environmental officers, hired to catch and prosecute illegal dump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n Diego-Annually there are over 25,000 reports of illegal dumping. These reports are investigated by the Departments Solid Waste Code Enforcement Tea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onths ago NY Cities Department of Sanitation nabbed 21 illegal dumpers. The City seized and impounded 21 vehicles. Fines can go from $1500 to $20,00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Pass Laws To Penalize Behavior</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waste-Producer take back laws require electronics manufactures to pay for collection, transportation and recycling of e-waste from consumers, business, schools and local governmen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unity Programs</a:t>
            </a:r>
            <a:br>
              <a:rPr sz="4400"/>
            </a:b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umpsters for clean-up.  East St.Louis Illinois- A community organization used 550 dumpsters provided by a local waste management compan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rap tire programs:  Detroit MI &amp; City of Hammonds, Indiana- A community group uses a grant to pay residents to bring illegally dumped tires to drop off loca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ustry Funded Efforts</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oco Foundation- Supports local efforts to improve the community in northwest Indian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rail Corporation-contributes up to $25,000 each year helping a community group in Philadelphia promote neighborhood participate in cleanup and enforcements activ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ivia question # 4</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was the hit box office movie in 198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3045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Trivia Question #1</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id we get our Name?</a:t>
            </a:r>
            <a:endParaRPr b="0" lang="en-US" sz="3200" spc="-1" strike="noStrike">
              <a:solidFill>
                <a:srgbClr val="000000"/>
              </a:solidFill>
              <a:latin typeface="Tahoma"/>
            </a:endParaRPr>
          </a:p>
        </p:txBody>
      </p:sp>
      <p:sp>
        <p:nvSpPr>
          <p:cNvPr id="106" name=""/>
          <p:cNvSpPr/>
          <p:nvPr/>
        </p:nvSpPr>
        <p:spPr>
          <a:xfrm>
            <a:off x="5257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one To Eliminate Illegal Dumping?</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ontainer Locking</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ditionally haulers and cities have avoided locking due to increased operating costs (driver out of the truck)</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developed a solution that allows you to lock the container to stop illegal dumping </a:t>
            </a:r>
            <a:r>
              <a:rPr b="0" lang="en-US" sz="3200" spc="-1" strike="noStrike" u="sng">
                <a:solidFill>
                  <a:srgbClr val="000000"/>
                </a:solidFill>
                <a:uFillTx/>
                <a:latin typeface="Tahoma"/>
              </a:rPr>
              <a:t>without</a:t>
            </a:r>
            <a:r>
              <a:rPr b="0" lang="en-US" sz="3200" spc="-1" strike="noStrike">
                <a:solidFill>
                  <a:srgbClr val="000000"/>
                </a:solidFill>
                <a:latin typeface="Tahoma"/>
              </a:rPr>
              <a:t> the increased operating cos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ocking Options </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Loc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ual Loc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c Loc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 Locks</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ly as well-does not stop illegal dump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ability issues-Attwoods in Flor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ractive nuisance issu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ual Locking</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Padlock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 Chains    Manual locking will cost you approximately $20,000 per year more than auto locking per 100 containers. This is just for your time and does not include wasted fuel cost from Idling truck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ability –Drivers falling on pavement or dumpst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omatic Locks</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reases the time in the field-saving you money</a:t>
            </a: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reases the fuel wasted from idling trucks-saving you money</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perating cost per truck: $65 per hour</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nlocking/Relocking            3 minutes</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Your cost each time           $3.25</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00  containers X 52 lifts per year $17,000</a:t>
            </a:r>
            <a:endParaRPr b="0" lang="en-US" sz="2800" spc="-1" strike="noStrike">
              <a:solidFill>
                <a:srgbClr val="000000"/>
              </a:solidFill>
              <a:latin typeface="Tahoma"/>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one to eliminate illegal dumping?</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Container Locking</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 Demonstr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can be done to eliminate illegal dumping?</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Other Benefits of Locking</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w that the operating costs are eliminated, haulers and cities can realize these other benefit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 Thef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ity</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Rainwater ou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 children and homeless out (attractive nuisanc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c.</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ne indisputable fact is that no solution to illegal dumping is complete without sealing the waste strea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verview</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Illegal Dumping and Theft of Servic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umps illegal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do individuals dump illegall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is illegal dumping a proble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can be done to eliminate illegal dumping?</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8">
                                            <p:txEl>
                                              <p:pRg st="1" end="1"/>
                                            </p:txEl>
                                          </p:spTgt>
                                        </p:tgtEl>
                                        <p:attrNameLst>
                                          <p:attrName>style.visibility</p:attrName>
                                        </p:attrNameLst>
                                      </p:cBhvr>
                                      <p:to>
                                        <p:strVal val="visible"/>
                                      </p:to>
                                    </p:set>
                                    <p:anim calcmode="lin" valueType="num">
                                      <p:cBhvr additive="base">
                                        <p:cTn id="13"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8">
                                            <p:txEl>
                                              <p:pRg st="2" end="2"/>
                                            </p:txEl>
                                          </p:spTgt>
                                        </p:tgtEl>
                                        <p:attrNameLst>
                                          <p:attrName>style.visibility</p:attrName>
                                        </p:attrNameLst>
                                      </p:cBhvr>
                                      <p:to>
                                        <p:strVal val="visible"/>
                                      </p:to>
                                    </p:set>
                                    <p:anim calcmode="lin" valueType="num">
                                      <p:cBhvr additive="base">
                                        <p:cTn id="19" dur="5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8">
                                            <p:txEl>
                                              <p:pRg st="3" end="3"/>
                                            </p:txEl>
                                          </p:spTgt>
                                        </p:tgtEl>
                                        <p:attrNameLst>
                                          <p:attrName>style.visibility</p:attrName>
                                        </p:attrNameLst>
                                      </p:cBhvr>
                                      <p:to>
                                        <p:strVal val="visible"/>
                                      </p:to>
                                    </p:set>
                                    <p:anim calcmode="lin" valueType="num">
                                      <p:cBhvr additive="base">
                                        <p:cTn id="25" dur="5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8">
                                            <p:txEl>
                                              <p:pRg st="4" end="4"/>
                                            </p:txEl>
                                          </p:spTgt>
                                        </p:tgtEl>
                                        <p:attrNameLst>
                                          <p:attrName>style.visibility</p:attrName>
                                        </p:attrNameLst>
                                      </p:cBhvr>
                                      <p:to>
                                        <p:strVal val="visible"/>
                                      </p:to>
                                    </p:set>
                                    <p:anim calcmode="lin" valueType="num">
                                      <p:cBhvr additive="base">
                                        <p:cTn id="31" dur="500" fill="hold"/>
                                        <p:tgtEl>
                                          <p:spTgt spid="108">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is Illegal Dumping and Theft of Service?</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llegal Dumping and Theft of Service?</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Illegal dumping is the disposal of waste generated at one location and disposed of at another location without legal permission.”</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ft of Service is illegal dumping into another person or business’ solid waste container for which they are not paying for the service.</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so known as “fly by dumping,” “open dumping” and “midnight dump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llegal Dumping and Theft of Service?</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items that are illegally dumped</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rd waste</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niture and appliance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on and demolition waste such as drywall roofing shingles, lumber, bricks, concrete &amp; siding</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andoned autos, parts &amp; scrap tire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ehold trash  </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l &amp; Hazwaste</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nts, chemicals &amp; batterie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was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ivia Question #2</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year did recycling hit the conscience of Mainstream US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52280" y="228600"/>
            <a:ext cx="8763120" cy="6400800"/>
          </a:xfrm>
          <a:prstGeom prst="rect">
            <a:avLst/>
          </a:prstGeom>
          <a:solidFill>
            <a:srgbClr val="00ccff"/>
          </a:solid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o Dumps Illegally?</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1T20:54:41Z</dcterms:created>
  <dc:creator>John Martin</dc:creator>
  <dc:description/>
  <dc:language>en-US</dc:language>
  <cp:lastModifiedBy>Shane Moody</cp:lastModifiedBy>
  <dcterms:modified xsi:type="dcterms:W3CDTF">2006-11-16T22:03:10Z</dcterms:modified>
  <cp:revision>63</cp:revision>
  <dc:subject/>
  <dc:title>Illegal Dumping</dc:title>
</cp:coreProperties>
</file>